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475-02D5-4B8F-87D9-34941827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E37-7CCA-444C-9A47-BCCDFA6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153-5836-449F-B361-6E32B974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D38-D40D-495A-8FF3-4AF00F47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7A5-50DB-4CEF-B906-B4EA6113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18E-BE83-4122-8969-578E50A4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ADF-2541-48AE-B1A0-F2EC57C2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1AE-D28F-44BA-AAA6-BD9D2A1A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C9C-683C-40EB-99F1-E0B64A23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99A-5EB5-4D97-903F-FD4032C9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B9D-48EC-4DFA-B5B9-782A7CD5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D45-4522-4A66-B7E7-93EC7563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A06A-A939-41A0-B245-538A92088F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s of A Boo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r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3733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ini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Gloss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Title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 of chapters in a 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title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gloss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e the book was prin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Publishing 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Due 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Copyright 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ne- is the backbone of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llustrator- person who draws the pi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r- protects the pages of a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ssary- mini diction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of Contents- list of chap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hor- person who writes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pyright date- Date the book was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sher- Company that prints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x- Alphabetical list of chap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llustrations- another word for pict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 who draws the pi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Illustra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h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ny that prints the 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phabetical list of su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tle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rites the boo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Illust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Publis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word fo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ictur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ob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illust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paragraph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bone of the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C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Sp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Auth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49:54Z</dcterms:created>
  <dc:creator>student</dc:creator>
  <dc:description/>
  <dc:language>en-US</dc:language>
  <cp:lastModifiedBy>student</cp:lastModifiedBy>
  <dcterms:modified xsi:type="dcterms:W3CDTF">2007-05-30T18:22:17Z</dcterms:modified>
  <cp:revision>2</cp:revision>
  <dc:subject/>
  <dc:title>Slide 1</dc:title>
</cp:coreProperties>
</file>